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B202-E63A-4248-8CBC-1065E461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FDF9-1F55-482C-A6C9-F1133696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AFC6-4831-47FE-8FC4-7D0BF4A0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F16-BEBB-483B-93C0-639FC48C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C63-FB03-46F2-819F-F9347F80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B97-8AB6-4E98-8319-48C8B22A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B0B-865F-49BA-AB6D-1463BBBC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D6A-5384-4344-906F-10BA5ACC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F42-E9DF-45DB-93E4-E7766653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4CC-0059-45C7-8E4A-EBE61BA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42A-AB4F-4A89-812B-3CBCACC0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908F-4E22-4533-8E2B-B19D4C0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802B-417C-43CB-B501-E57047C80FF2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27:03Z</dcterms:modified>
  <cp:revision>170</cp:revision>
  <dc:subject/>
  <dc:title>PowerPoint</dc:title>
</cp:coreProperties>
</file>